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6.gif" ContentType="image/gif"/>
  <Override PartName="/ppt/media/image19.gif" ContentType="image/gif"/>
  <Override PartName="/ppt/media/image14.jpeg" ContentType="image/jpeg"/>
  <Override PartName="/ppt/media/image18.jpeg" ContentType="image/jpeg"/>
  <Override PartName="/ppt/media/image16.jpeg" ContentType="image/jpeg"/>
  <Override PartName="/ppt/media/image39.gif" ContentType="image/gif"/>
  <Override PartName="/ppt/media/image15.jpeg" ContentType="image/jpeg"/>
  <Override PartName="/ppt/media/image23.jpeg" ContentType="image/jpeg"/>
  <Override PartName="/ppt/media/image12.png" ContentType="image/png"/>
  <Override PartName="/ppt/media/image49.png" ContentType="image/png"/>
  <Override PartName="/ppt/media/image2.jpeg" ContentType="image/jpeg"/>
  <Override PartName="/ppt/media/image36.jpeg" ContentType="image/jpeg"/>
  <Override PartName="/ppt/media/image17.jpeg" ContentType="image/jpeg"/>
  <Override PartName="/ppt/media/image3.png" ContentType="image/png"/>
  <Override PartName="/ppt/media/image40.gif" ContentType="image/gif"/>
  <Override PartName="/ppt/media/image30.jpeg" ContentType="image/jpeg"/>
  <Override PartName="/ppt/media/image20.jpeg" ContentType="image/jpeg"/>
  <Override PartName="/ppt/media/image31.jpeg" ContentType="image/jpeg"/>
  <Override PartName="/ppt/media/image32.jpeg" ContentType="image/jpeg"/>
  <Override PartName="/ppt/media/image26.jpeg" ContentType="image/jpeg"/>
  <Override PartName="/ppt/media/image37.jpeg" ContentType="image/jpeg"/>
  <Override PartName="/ppt/media/image10.gif" ContentType="image/gif"/>
  <Override PartName="/ppt/media/image34.jpeg" ContentType="image/jpeg"/>
  <Override PartName="/ppt/media/image41.gif" ContentType="image/gif"/>
  <Override PartName="/ppt/media/image45.jpeg" ContentType="image/jpeg"/>
  <Override PartName="/ppt/media/image42.jpeg" ContentType="image/jpeg"/>
  <Override PartName="/ppt/media/image43.jpeg" ContentType="image/jpeg"/>
  <Override PartName="/ppt/media/image44.jpeg" ContentType="image/jpeg"/>
  <Override PartName="/ppt/media/image46.png" ContentType="image/png"/>
  <Override PartName="/ppt/media/image48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7.gif" ContentType="image/gif"/>
  <Override PartName="/ppt/media/image29.jpeg" ContentType="image/jpeg"/>
  <Override PartName="/ppt/media/image38.jpeg" ContentType="image/jpeg"/>
  <Override PartName="/ppt/media/image5.gif" ContentType="image/gif"/>
  <Override PartName="/ppt/media/image33.jpeg" ContentType="image/jpeg"/>
  <Override PartName="/ppt/media/image4.gif" ContentType="image/gif"/>
  <Override PartName="/ppt/media/image4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22BD-9DB5-46F2-A237-451D5ABA5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B4EF-28C5-45E0-804F-56526C6CB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5BE6-C9E8-46D3-B13F-29CFE908D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F966-2680-4EB3-928E-B8B84F2BC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9B244-4ECD-4386-B5A2-A19B39427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18BF4-894D-4CFF-B27A-61712F709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90BD3-6959-4CFB-A1C8-07D236C54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77769-24D4-4E2F-8755-C06035DA8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1022A-64D7-49D1-88E0-521B21F7C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F3DC9-AB95-4E1E-BA01-B9A1C7BC8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442BE-6665-4C01-9A79-07CAD2B3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52F4-9994-4D8E-9489-E9800B537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C0219-DD68-434A-842C-EF347B07C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AA38B-B991-4D54-8737-723DD8ABB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B5480-16C9-4492-857E-2067411A0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FFAE6-4DFF-424D-B987-90D0932B5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AA942-CA3D-428C-96DC-2DE80F505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A1F7-8A68-4A65-B497-9A8B5146E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BAF8-FA64-40C6-8138-041207D57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3A76-D535-40FC-8A86-D90D54ECA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CB10-F65C-446D-8DC0-DC1D91289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B07D-9353-48C2-A619-CFEEBC24D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418C-3D49-44E1-856E-CBA707E0C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F75F-4704-4542-869A-48E30E94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bbd71"/>
            </a:gs>
            <a:gs pos="100000">
              <a:srgbClr val="65573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8F126-B8D2-4FE0-B92E-AECC8D34439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bbd71"/>
            </a:gs>
            <a:gs pos="100000">
              <a:srgbClr val="65573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5B070-C80B-4EC4-8F39-BB14A8996B6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slide" Target="slide12.xml"/><Relationship Id="rId5" Type="http://schemas.openxmlformats.org/officeDocument/2006/relationships/slide" Target="slide.xml"/><Relationship Id="rId6" Type="http://schemas.openxmlformats.org/officeDocument/2006/relationships/slide" Target="slide.xml"/><Relationship Id="rId7" Type="http://schemas.openxmlformats.org/officeDocument/2006/relationships/slide" Target="slide&#1087;&#1088;&#1072;&#1074;&#1072;.xml"/><Relationship Id="rId8" Type="http://schemas.openxmlformats.org/officeDocument/2006/relationships/slide" Target="slide.xml"/><Relationship Id="rId9" Type="http://schemas.openxmlformats.org/officeDocument/2006/relationships/image" Target="../media/image5.gif"/><Relationship Id="rId10" Type="http://schemas.openxmlformats.org/officeDocument/2006/relationships/image" Target="../media/image6.gif"/><Relationship Id="rId11" Type="http://schemas.openxmlformats.org/officeDocument/2006/relationships/image" Target="../media/image7.gif"/><Relationship Id="rId1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image" Target="../media/image41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87280" y="0"/>
            <a:ext cx="7956720" cy="2852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663300"/>
                </a:solidFill>
                <a:latin typeface="Times New Roman"/>
              </a:rPr>
              <a:t>Уголовное</a:t>
            </a:r>
            <a:r>
              <a:rPr b="0" lang="ru-RU" sz="8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9600" spc="-1" strike="noStrike">
                <a:solidFill>
                  <a:srgbClr val="663300"/>
                </a:solidFill>
                <a:latin typeface="Arial"/>
              </a:rPr>
              <a:t>право</a:t>
            </a:r>
            <a:endParaRPr b="0" lang="en-US" sz="9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2627280" y="2923920"/>
            <a:ext cx="64008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Каждый из нас - сын своих дел. –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М. Серванте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4" descr="055Суд во время Русской Правды"/>
          <p:cNvPicPr/>
          <p:nvPr/>
        </p:nvPicPr>
        <p:blipFill>
          <a:blip r:embed="rId1"/>
          <a:stretch/>
        </p:blipFill>
        <p:spPr>
          <a:xfrm>
            <a:off x="3676680" y="4221000"/>
            <a:ext cx="5467320" cy="2637000"/>
          </a:xfrm>
          <a:prstGeom prst="rect">
            <a:avLst/>
          </a:prstGeom>
          <a:ln w="0">
            <a:noFill/>
          </a:ln>
        </p:spPr>
      </p:pic>
      <p:grpSp>
        <p:nvGrpSpPr>
          <p:cNvPr id="155" name="Group 12"/>
          <p:cNvGrpSpPr/>
          <p:nvPr/>
        </p:nvGrpSpPr>
        <p:grpSpPr>
          <a:xfrm>
            <a:off x="0" y="1268280"/>
            <a:ext cx="3132000" cy="5492880"/>
            <a:chOff x="0" y="1268280"/>
            <a:chExt cx="3132000" cy="5492880"/>
          </a:xfrm>
        </p:grpSpPr>
        <p:pic>
          <p:nvPicPr>
            <p:cNvPr id="156" name="Picture 5" descr="roth03Вывеска музея Уголовного права"/>
            <p:cNvPicPr/>
            <p:nvPr/>
          </p:nvPicPr>
          <p:blipFill>
            <a:blip r:embed="rId2"/>
            <a:stretch/>
          </p:blipFill>
          <p:spPr>
            <a:xfrm>
              <a:off x="0" y="1268280"/>
              <a:ext cx="3132000" cy="48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Rectangle 11"/>
            <p:cNvSpPr/>
            <p:nvPr/>
          </p:nvSpPr>
          <p:spPr>
            <a:xfrm>
              <a:off x="0" y="6180480"/>
              <a:ext cx="3132000" cy="580680"/>
            </a:xfrm>
            <a:prstGeom prst="rect">
              <a:avLst/>
            </a:prstGeom>
            <a:solidFill>
              <a:srgbClr val="dbbd71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ffffff"/>
                  </a:solidFill>
                  <a:latin typeface="Tahoma"/>
                </a:rPr>
                <a:t>Вывеска музея 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ffffff"/>
                  </a:solidFill>
                  <a:latin typeface="Tahoma"/>
                </a:rPr>
                <a:t>Уголовного права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158" name="nasha_sluzhba_i_opasna_i_trudna.mp3" descr=""/>
          <p:cNvPicPr/>
          <p:nvPr/>
        </p:nvPicPr>
        <p:blipFill>
          <a:blip r:embed="rId3"/>
          <a:stretch/>
        </p:blipFill>
        <p:spPr>
          <a:xfrm>
            <a:off x="3203640" y="5805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4" descr="16"/>
          <p:cNvPicPr/>
          <p:nvPr/>
        </p:nvPicPr>
        <p:blipFill>
          <a:blip r:embed="rId4"/>
          <a:stretch/>
        </p:blipFill>
        <p:spPr>
          <a:xfrm>
            <a:off x="7380360" y="1197000"/>
            <a:ext cx="115236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8" presetSubtype="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" dur="3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8" presetSubtype="1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8" presetSubtype="1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8" presetSubtype="12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8" presetSubtype="12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3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362800" cy="1143000"/>
          </a:xfrm>
          <a:prstGeom prst="rect">
            <a:avLst/>
          </a:prstGeom>
          <a:solidFill>
            <a:srgbClr val="cccc00"/>
          </a:solidFill>
          <a:ln w="57240">
            <a:solidFill>
              <a:srgbClr val="66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3300"/>
                </a:solidFill>
                <a:latin typeface="Arial"/>
              </a:rPr>
              <a:t>Понятие и признаки преступлений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8373960" cy="2087640"/>
          </a:xfrm>
          <a:prstGeom prst="rect">
            <a:avLst/>
          </a:prstGeom>
          <a:gradFill rotWithShape="0">
            <a:gsLst>
              <a:gs pos="0">
                <a:srgbClr val="655734"/>
              </a:gs>
              <a:gs pos="100000">
                <a:srgbClr val="dbbd71"/>
              </a:gs>
            </a:gsLst>
            <a:lin ang="5400000"/>
          </a:gradFill>
          <a:ln w="3816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1800" spc="-1" strike="noStrike">
                <a:solidFill>
                  <a:srgbClr val="dbbd71"/>
                </a:solidFill>
                <a:latin typeface="Times New Roman"/>
              </a:rPr>
              <a:t>Отсутствие общественной опасности исключает возможность признания деяния преступлением (речь идет о малозначительных деяниях, действиях необходимой обороны и т.д.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Преступлением признается запрещенное уголовным законом общественно опасное деяние (действие или бездействие), причиняющее вред или создающее угрозу причинения вреда личности, обществу или государств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2556000" y="3860640"/>
            <a:ext cx="6588000" cy="2528280"/>
          </a:xfrm>
          <a:prstGeom prst="rect">
            <a:avLst/>
          </a:prstGeom>
          <a:solidFill>
            <a:srgbClr val="cccc00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ahoma"/>
              </a:rPr>
              <a:t>Уголовная ответственность возникает с момента совершения лицом преступления, а прекращается либо по отбытии наказания (снятие или погашение судимости), либо в случае освобождения от уголовной ответственности, либо в силу акта об амнистии или помиловании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ahoma"/>
              </a:rPr>
              <a:t>Существует </a:t>
            </a:r>
            <a:r>
              <a:rPr b="1" lang="ru-RU" sz="1600" spc="-1" strike="noStrike">
                <a:solidFill>
                  <a:srgbClr val="663300"/>
                </a:solidFill>
                <a:latin typeface="Tahoma"/>
              </a:rPr>
              <a:t>фактическое </a:t>
            </a:r>
            <a:r>
              <a:rPr b="0" lang="ru-RU" sz="1600" spc="-1" strike="noStrike">
                <a:solidFill>
                  <a:srgbClr val="663300"/>
                </a:solidFill>
                <a:latin typeface="Tahoma"/>
              </a:rPr>
              <a:t>и </a:t>
            </a:r>
            <a:r>
              <a:rPr b="1" lang="ru-RU" sz="1600" spc="-1" strike="noStrike">
                <a:solidFill>
                  <a:srgbClr val="663300"/>
                </a:solidFill>
                <a:latin typeface="Tahoma"/>
              </a:rPr>
              <a:t>юридическое</a:t>
            </a:r>
            <a:r>
              <a:rPr b="0" lang="ru-RU" sz="1600" spc="-1" strike="noStrike">
                <a:solidFill>
                  <a:srgbClr val="663300"/>
                </a:solidFill>
                <a:latin typeface="Tahoma"/>
              </a:rPr>
              <a:t> основание уголовной ответственност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663300"/>
                </a:solidFill>
                <a:latin typeface="Tahoma"/>
              </a:rPr>
              <a:t>Лицо, совершившее преступление, подлежит уголовной ответственности независимо от происхождения, социального, должностного и имущественного положения, расовой и национальной принадлежности, пола, образования, языка и т.д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3" name="Picture 5" descr="555b2b1051829baa530b98c880c1bbd6"/>
          <p:cNvPicPr/>
          <p:nvPr/>
        </p:nvPicPr>
        <p:blipFill>
          <a:blip r:embed="rId1"/>
          <a:stretch/>
        </p:blipFill>
        <p:spPr>
          <a:xfrm>
            <a:off x="395280" y="3933720"/>
            <a:ext cx="193356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67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2" dur="2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7" dur="2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2" dur="2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7" dur="2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2" dur="20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323640" y="188640"/>
            <a:ext cx="5219640" cy="2879640"/>
          </a:xfrm>
          <a:prstGeom prst="rect">
            <a:avLst/>
          </a:prstGeom>
          <a:solidFill>
            <a:srgbClr val="cccc00"/>
          </a:solidFill>
          <a:ln w="3816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Уровень общественной опасности, а значит и характер наказания зависят от целого ряда факторов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ценности охраняемого объект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характера и размера преступного последствия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способ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орудия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мест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времен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обстановки совершения преступления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395280" y="3933720"/>
            <a:ext cx="6012000" cy="2376360"/>
          </a:xfrm>
          <a:prstGeom prst="rect">
            <a:avLst/>
          </a:prstGeom>
          <a:solidFill>
            <a:srgbClr val="dbbd71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ahoma"/>
              </a:rPr>
              <a:t>По степени общественной опасности</a:t>
            </a: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 преступления делятся на насильственные, экономические, государственные, хозяйственные, умышленные и неосторожные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663300"/>
                </a:solidFill>
                <a:latin typeface="Tahoma"/>
              </a:rPr>
              <a:t>по степени</a:t>
            </a: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: особо тяжкие, тяжкие, средней тяжести, и не представляющие большой общественной опасност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662400" y="3068640"/>
            <a:ext cx="8193960" cy="642600"/>
          </a:xfrm>
          <a:prstGeom prst="rect">
            <a:avLst/>
          </a:prstGeom>
          <a:solidFill>
            <a:srgbClr val="dbbd71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ahoma"/>
              </a:rPr>
              <a:t>Существую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663300"/>
                </a:solidFill>
                <a:latin typeface="Tahoma"/>
              </a:rPr>
              <a:t>качественные и количественные характеристики преступления.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7" name="Picture 6" descr="0712-02"/>
          <p:cNvPicPr/>
          <p:nvPr/>
        </p:nvPicPr>
        <p:blipFill>
          <a:blip r:embed="rId1"/>
          <a:stretch/>
        </p:blipFill>
        <p:spPr>
          <a:xfrm>
            <a:off x="6659640" y="3933720"/>
            <a:ext cx="2293920" cy="292428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  <p:pic>
        <p:nvPicPr>
          <p:cNvPr id="218" name="Picture 7" descr="2871b"/>
          <p:cNvPicPr/>
          <p:nvPr/>
        </p:nvPicPr>
        <p:blipFill>
          <a:blip r:embed="rId2"/>
          <a:stretch/>
        </p:blipFill>
        <p:spPr>
          <a:xfrm>
            <a:off x="5867280" y="404640"/>
            <a:ext cx="2857680" cy="220032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9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4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9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4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9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4" dur="5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92000"/>
          </a:xfrm>
          <a:prstGeom prst="rect">
            <a:avLst/>
          </a:prstGeom>
          <a:solidFill>
            <a:srgbClr val="cccc00"/>
          </a:solidFill>
          <a:ln w="38160">
            <a:solidFill>
              <a:srgbClr val="66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663300"/>
                </a:solidFill>
                <a:latin typeface="Arial"/>
              </a:rPr>
              <a:t>Состав преступления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10440" y="1125360"/>
            <a:ext cx="9271440" cy="642600"/>
          </a:xfrm>
          <a:prstGeom prst="rect">
            <a:avLst/>
          </a:prstGeom>
          <a:solidFill>
            <a:srgbClr val="dbbd71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Составом преступления принято называть совокупност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установленных законом объективных и субъективных признаков преступл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2268360" y="1844640"/>
            <a:ext cx="6696360" cy="3934440"/>
          </a:xfrm>
          <a:prstGeom prst="rect">
            <a:avLst/>
          </a:prstGeom>
          <a:solidFill>
            <a:srgbClr val="ffcc66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Объектом преступления являются охраняемые законом общественные отношени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663300"/>
                </a:solidFill>
                <a:latin typeface="Tahoma"/>
              </a:rPr>
              <a:t>Объект </a:t>
            </a: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может быт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358920"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общим (вся совокупность общественных отношений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358920"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родовым (однородная группа общественных отношений)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358920"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непосредственным (то общественное отношение, которое терпит ущерб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663300"/>
                </a:solidFill>
                <a:latin typeface="Tahoma"/>
              </a:rPr>
              <a:t>Беспредметных преступлений не существует</a:t>
            </a: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 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Объективная сторона преступления - это внешняя сторона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а есть</a:t>
            </a:r>
            <a:r>
              <a:rPr b="1" lang="ru-RU" sz="1800" spc="-1" strike="noStrike">
                <a:solidFill>
                  <a:srgbClr val="663300"/>
                </a:solidFill>
                <a:latin typeface="Tahoma"/>
              </a:rPr>
              <a:t> субъективная</a:t>
            </a: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 - мотивы и цели, отношение виновного к своему деянию и его последствиям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0" y="6159600"/>
            <a:ext cx="9144000" cy="916920"/>
          </a:xfrm>
          <a:prstGeom prst="rect">
            <a:avLst/>
          </a:prstGeom>
          <a:solidFill>
            <a:srgbClr val="dbbd71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Выделяют такие формы преступления, как: длящиеся, продолжаемы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(повторяемые) и составные (различные преступления, совершенные одним лицо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337680" y="5734080"/>
            <a:ext cx="8032320" cy="368280"/>
          </a:xfrm>
          <a:prstGeom prst="rect">
            <a:avLst/>
          </a:prstGeom>
          <a:solidFill>
            <a:srgbClr val="dbbd71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Преступление может выражаться как в действии, так и бездействие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4" name="Picture 9" descr="020202ac"/>
          <p:cNvPicPr/>
          <p:nvPr/>
        </p:nvPicPr>
        <p:blipFill>
          <a:blip r:embed="rId1"/>
          <a:stretch/>
        </p:blipFill>
        <p:spPr>
          <a:xfrm>
            <a:off x="108000" y="2492280"/>
            <a:ext cx="2016000" cy="288468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6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7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6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3851280" y="1197000"/>
            <a:ext cx="5113440" cy="5516640"/>
          </a:xfrm>
          <a:prstGeom prst="rect">
            <a:avLst/>
          </a:prstGeom>
          <a:solidFill>
            <a:srgbClr val="a87000"/>
          </a:solidFill>
          <a:ln w="936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За тяжкие и распространенные преступления ответственность наступает с 14 лет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се виды убийств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мышленное нанесение телесных повреждений, причинивших расстройство здоровь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збой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рабеж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ражу чужого имущества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лостное и особо злостное хулиганство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хищение огнестрельного оружия, наркотиков и т.д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головное наказание применяется к подросткам не тогда, когда это возможно, а только тогда, когда без него нельзя обойтись. В некоторых случаях уголовный закон предусматривает уголовную ответственность лица по достижении им 18 лет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646920" y="260280"/>
            <a:ext cx="8216640" cy="642600"/>
          </a:xfrm>
          <a:prstGeom prst="rect">
            <a:avLst/>
          </a:prstGeom>
          <a:solidFill>
            <a:srgbClr val="a87000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убъектом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еступления может быть признано физическое лицо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меняемое и достигшее возраста уголовной ответственности -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16 лет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7" name="Picture 8" descr="f75d3f8977640d6973375c6ae8291759областном суде состоялось заседание"/>
          <p:cNvPicPr/>
          <p:nvPr/>
        </p:nvPicPr>
        <p:blipFill>
          <a:blip r:embed="rId1"/>
          <a:stretch/>
        </p:blipFill>
        <p:spPr>
          <a:xfrm>
            <a:off x="179280" y="3716280"/>
            <a:ext cx="3527640" cy="285120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  <p:pic>
        <p:nvPicPr>
          <p:cNvPr id="228" name="Picture 10" descr="173924239"/>
          <p:cNvPicPr/>
          <p:nvPr/>
        </p:nvPicPr>
        <p:blipFill>
          <a:blip r:embed="rId2"/>
          <a:stretch/>
        </p:blipFill>
        <p:spPr>
          <a:xfrm>
            <a:off x="179280" y="1268280"/>
            <a:ext cx="3346560" cy="214632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8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3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8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3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8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3" dur="50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8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3" dur="500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8" dur="500"/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4"/>
          <p:cNvSpPr/>
          <p:nvPr/>
        </p:nvSpPr>
        <p:spPr>
          <a:xfrm>
            <a:off x="3780000" y="189000"/>
            <a:ext cx="4895640" cy="4362840"/>
          </a:xfrm>
          <a:prstGeom prst="rect">
            <a:avLst/>
          </a:prstGeom>
          <a:solidFill>
            <a:srgbClr val="dbbd71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ahoma"/>
              </a:rPr>
              <a:t>Субъектом преступления также может выступать </a:t>
            </a:r>
            <a:r>
              <a:rPr b="1" lang="ru-RU" sz="2000" spc="-1" strike="noStrike">
                <a:solidFill>
                  <a:srgbClr val="663300"/>
                </a:solidFill>
                <a:latin typeface="Tahoma"/>
              </a:rPr>
              <a:t>юридическое лицо</a:t>
            </a:r>
            <a:r>
              <a:rPr b="0" lang="ru-RU" sz="2000" spc="-1" strike="noStrike">
                <a:solidFill>
                  <a:srgbClr val="663300"/>
                </a:solidFill>
                <a:latin typeface="Tahoma"/>
              </a:rPr>
              <a:t> (предприятие, учреждение, организация и т.д.), если его деятельность не соответствует учредительным документам или объявленным целям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ahoma"/>
              </a:rPr>
              <a:t>За это преступление предусматривается штраф, запрещение заниматься определенной деятельностью, конфискация имущества, ликвидация юридического лица и д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395280" y="4653000"/>
            <a:ext cx="8569440" cy="2014200"/>
          </a:xfrm>
          <a:prstGeom prst="rect">
            <a:avLst/>
          </a:prstGeom>
          <a:solidFill>
            <a:srgbClr val="dbbd71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ahoma"/>
              </a:rPr>
              <a:t>Соучастие в преступлении</a:t>
            </a: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 есть умышленное совместное участие двух или более лиц в совершении преступления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В зависимости от характера выполняемых действий соучастники подразделяются на исполнителей, организаторов, подстрекателей и пособников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Ответственность соучастников определяется характером участия каждого из них в совершении преступлени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1" name="Picture 6" descr="element-589841-misc-plut_700"/>
          <p:cNvPicPr/>
          <p:nvPr/>
        </p:nvPicPr>
        <p:blipFill>
          <a:blip r:embed="rId1"/>
          <a:stretch/>
        </p:blipFill>
        <p:spPr>
          <a:xfrm>
            <a:off x="250920" y="2421000"/>
            <a:ext cx="3076560" cy="208764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  <p:pic>
        <p:nvPicPr>
          <p:cNvPr id="232" name="Picture 7" descr="karikatura224"/>
          <p:cNvPicPr/>
          <p:nvPr/>
        </p:nvPicPr>
        <p:blipFill>
          <a:blip r:embed="rId2"/>
          <a:stretch/>
        </p:blipFill>
        <p:spPr>
          <a:xfrm>
            <a:off x="108000" y="189000"/>
            <a:ext cx="3600360" cy="210636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5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0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solidFill>
            <a:srgbClr val="cccc00"/>
          </a:solidFill>
          <a:ln w="28440">
            <a:solidFill>
              <a:srgbClr val="66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3300"/>
                </a:solidFill>
                <a:latin typeface="Arial"/>
              </a:rPr>
              <a:t>Наказание, их система и виды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1440000"/>
          </a:xfrm>
          <a:prstGeom prst="rect">
            <a:avLst/>
          </a:prstGeom>
          <a:solidFill>
            <a:srgbClr val="dbbd71"/>
          </a:solidFill>
          <a:ln w="5724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Наказание устанавливается с учетом тяжести совершенного преступления, степени общественной опасности личности, обстоятельств, смягчающих и отягощающих уголовную ответственность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Суд учитывает также обстоятельства дела и личность виновного, а равно его явку с повинной либо активное способствование раскрытию преступл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2700360" y="3284640"/>
            <a:ext cx="6265800" cy="1465560"/>
          </a:xfrm>
          <a:prstGeom prst="rect">
            <a:avLst/>
          </a:prstGeom>
          <a:solidFill>
            <a:srgbClr val="99cc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ahoma"/>
              </a:rPr>
              <a:t>Признакам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наказания являются предусмотренность законом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публичность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отрицательность морально-политической оценки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применимость только по решению суд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6" name="Picture 6" descr="iгпв"/>
          <p:cNvPicPr/>
          <p:nvPr/>
        </p:nvPicPr>
        <p:blipFill>
          <a:blip r:embed="rId1"/>
          <a:stretch/>
        </p:blipFill>
        <p:spPr>
          <a:xfrm>
            <a:off x="0" y="3213000"/>
            <a:ext cx="2554200" cy="148428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  <p:sp>
        <p:nvSpPr>
          <p:cNvPr id="237" name="Rectangle 7"/>
          <p:cNvSpPr/>
          <p:nvPr/>
        </p:nvSpPr>
        <p:spPr>
          <a:xfrm>
            <a:off x="0" y="4824360"/>
            <a:ext cx="8785080" cy="1992240"/>
          </a:xfrm>
          <a:prstGeom prst="rect">
            <a:avLst/>
          </a:prstGeom>
          <a:solidFill>
            <a:srgbClr val="dbbd71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Наказание нацелено на исправление осужденного и предупреждение новых преступлений как осужденным, так и иными лицам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Наказание не имеет целью причинение осужденному физических страданий или унижение его человеческого достоинств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0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15" dur="2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20" dur="2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2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58" dur="2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63" dur="20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66" dur="20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5"/>
          <p:cNvSpPr/>
          <p:nvPr/>
        </p:nvSpPr>
        <p:spPr>
          <a:xfrm>
            <a:off x="179280" y="3500280"/>
            <a:ext cx="8964720" cy="3051360"/>
          </a:xfrm>
          <a:prstGeom prst="rect">
            <a:avLst/>
          </a:prstGeom>
          <a:solidFill>
            <a:srgbClr val="dbbd71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Дополнительные наказания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 не могут применяться самостоятельно, к ним можно отнести конфискацию имущества, лишение воинского или специального звани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В виде исключительной меры наказания допускается применение смертной казни - расстрела (умышленное убийство с особой жестокостью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К ней не могут быть приговорены несовершеннолетние до 18 лет, женщины в состоянии беременности (по проекту - она не должна применяться к женщинам, к мужчинам старше 65 лет). В результате помилования смертная казнь может заменяться пожизненным заключение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176040" y="401760"/>
            <a:ext cx="3826080" cy="825480"/>
          </a:xfrm>
          <a:prstGeom prst="rect">
            <a:avLst/>
          </a:prstGeom>
          <a:solidFill>
            <a:srgbClr val="cccc00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ahoma"/>
              </a:rPr>
              <a:t>К основным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ahoma"/>
              </a:rPr>
              <a:t>наказаниям относят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179280" y="1700280"/>
            <a:ext cx="4572000" cy="1557000"/>
          </a:xfrm>
          <a:prstGeom prst="rect">
            <a:avLst/>
          </a:prstGeom>
          <a:solidFill>
            <a:srgbClr val="99cc00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ahoma"/>
              </a:rPr>
              <a:t>лишение свободы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99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ahoma"/>
              </a:rPr>
              <a:t>исправительные работы без лишения свободы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99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ahoma"/>
              </a:rPr>
              <a:t>общественное порица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1" name="Picture 8" descr="rthria_cont"/>
          <p:cNvPicPr/>
          <p:nvPr/>
        </p:nvPicPr>
        <p:blipFill>
          <a:blip r:embed="rId1"/>
          <a:stretch/>
        </p:blipFill>
        <p:spPr>
          <a:xfrm>
            <a:off x="5003640" y="189000"/>
            <a:ext cx="4140360" cy="324000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4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nodeType="clickEffect" fill="hold">
                      <p:stCondLst>
                        <p:cond delay="indefinite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4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9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4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solidFill>
            <a:srgbClr val="cccc00"/>
          </a:solidFill>
          <a:ln w="28440">
            <a:solidFill>
              <a:srgbClr val="66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3300"/>
                </a:solidFill>
                <a:latin typeface="Arial"/>
              </a:rPr>
              <a:t>Преступления, попадающие под действие уголовного прав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78920" y="1773360"/>
            <a:ext cx="5256360" cy="5084640"/>
          </a:xfrm>
          <a:prstGeom prst="rect">
            <a:avLst/>
          </a:prstGeom>
          <a:solidFill>
            <a:srgbClr val="dbbd71"/>
          </a:solidFill>
          <a:ln w="5724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Конституция РФ закрепила право человека на жизнь, свободу и личную неприкосновенность, поэтому охрана жизни, здоровья, свободы, чести и достоинства - одна из важнейших задач уголовного законодательств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Самым опасным являются убийства (противоправное умышленное или неосторожное лишение жизни другого человека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Не менее опасным является умышленное нанесение тяжелого телесного повреждения, изнасилование, незаконное лишение свободы, захват заложников, похищение человека, помещение в психиатрическую больницу заведомо психически здорового человека и т.д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ahoma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4" name="Picture 4" descr="iмтт"/>
          <p:cNvPicPr/>
          <p:nvPr/>
        </p:nvPicPr>
        <p:blipFill>
          <a:blip r:embed="rId1"/>
          <a:stretch/>
        </p:blipFill>
        <p:spPr>
          <a:xfrm>
            <a:off x="5724360" y="4149720"/>
            <a:ext cx="3240360" cy="212724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pic>
        <p:nvPicPr>
          <p:cNvPr id="245" name="Picture 5" descr="iаол"/>
          <p:cNvPicPr/>
          <p:nvPr/>
        </p:nvPicPr>
        <p:blipFill>
          <a:blip r:embed="rId2"/>
          <a:stretch/>
        </p:blipFill>
        <p:spPr>
          <a:xfrm>
            <a:off x="6227640" y="1989000"/>
            <a:ext cx="2355840" cy="161784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1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6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3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3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8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3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8" dur="5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250560" y="620640"/>
            <a:ext cx="5219640" cy="4530960"/>
          </a:xfrm>
          <a:prstGeom prst="rect">
            <a:avLst/>
          </a:prstGeom>
          <a:solidFill>
            <a:srgbClr val="dbbd71"/>
          </a:solidFill>
          <a:ln w="936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К </a:t>
            </a: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корыстным преступлениям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 относятся преступления против собственности - незаконное обогащение за счет чужого имуществ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Среди них можно выделить: </a:t>
            </a: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кражу, грабеж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 - открытое изъятие имущества без насилия либо с насилием, не опасным для жизни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разбой 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- насильственное нападение, опасное для жизни и здоровья (физически или психологически)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мошенничество 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- завладение чужим имуществом путем обмана или злоупотребления доверием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вымогательство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 чужого имущества - требование передачи имущества или права на него под угрозой применения насилия, шантаж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0920" y="5445000"/>
            <a:ext cx="8748720" cy="589680"/>
          </a:xfrm>
          <a:prstGeom prst="rect">
            <a:avLst/>
          </a:prstGeom>
          <a:solidFill>
            <a:srgbClr val="cccc00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За кражу, грабеж и разбой ответственность наступает с 14 лет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за остальные преступления - с 16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8" name="Picture 6" descr="hru"/>
          <p:cNvPicPr/>
          <p:nvPr/>
        </p:nvPicPr>
        <p:blipFill>
          <a:blip r:embed="rId1"/>
          <a:stretch/>
        </p:blipFill>
        <p:spPr>
          <a:xfrm>
            <a:off x="5867280" y="2852640"/>
            <a:ext cx="3075120" cy="216072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pic>
        <p:nvPicPr>
          <p:cNvPr id="249" name="Picture 7" descr="1222739497_14"/>
          <p:cNvPicPr/>
          <p:nvPr/>
        </p:nvPicPr>
        <p:blipFill>
          <a:blip r:embed="rId2"/>
          <a:stretch/>
        </p:blipFill>
        <p:spPr>
          <a:xfrm>
            <a:off x="6227640" y="0"/>
            <a:ext cx="2354400" cy="256536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9" dur="indefinite" restart="never" nodeType="tmRoot">
          <p:childTnLst>
            <p:seq>
              <p:cTn id="960" dur="indefinite" nodeType="mainSeq">
                <p:childTnLst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65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8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5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nodeType="clickEffect" fill="hold">
                      <p:stCondLst>
                        <p:cond delay="indefinite"/>
                      </p:stCondLst>
                      <p:childTnLst>
                        <p:par>
                          <p:cTn id="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2" dur="1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9" dur="10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nodeType="clickEffect" fill="hold">
                      <p:stCondLst>
                        <p:cond delay="indefinite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6" dur="10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3" dur="10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0" dur="10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7" dur="1000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20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250560" y="1773360"/>
            <a:ext cx="5435640" cy="4897440"/>
          </a:xfrm>
          <a:prstGeom prst="rect">
            <a:avLst/>
          </a:prstGeom>
          <a:solidFill>
            <a:srgbClr val="cccc00"/>
          </a:solidFill>
          <a:ln w="936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За </a:t>
            </a: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мелкое хулиганство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 (нецензурная брань в общественных местах, оскорбительное приставание к гражданам и т.д.) предусмотрена административная ответственност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Простое хулиганство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 наказывается лишением свободы сроком до одного года или исправительными работами, или штрафом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За </a:t>
            </a: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злостное хулиганство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 (отличается исключительным цинизмом или особой дерзостью, сопротивлением власти или гражданам, пресекающим хулиганские действия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3589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лишение свободы от одного до пяти лет (глумление над престарелыми или больными, уничтожение имущества потерпевшего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3589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От трех до семи лет за совершение особо злостного хулиганства (с применением огнестрельного или холодного оружия, кастетов и др. предметов, специально предназначенных для нанесения телесных повреждений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1" name="Picture 4" descr="000126ir"/>
          <p:cNvPicPr/>
          <p:nvPr/>
        </p:nvPicPr>
        <p:blipFill>
          <a:blip r:embed="rId1"/>
          <a:stretch/>
        </p:blipFill>
        <p:spPr>
          <a:xfrm>
            <a:off x="6012000" y="2924280"/>
            <a:ext cx="2879640" cy="264312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  <p:sp>
        <p:nvSpPr>
          <p:cNvPr id="252" name="Rectangle 5"/>
          <p:cNvSpPr/>
          <p:nvPr/>
        </p:nvSpPr>
        <p:spPr>
          <a:xfrm>
            <a:off x="0" y="189000"/>
            <a:ext cx="9036000" cy="916920"/>
          </a:xfrm>
          <a:prstGeom prst="rect">
            <a:avLst/>
          </a:prstGeom>
          <a:solidFill>
            <a:srgbClr val="cccc00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ahoma"/>
              </a:rPr>
              <a:t>Хулиганство </a:t>
            </a: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выражается в активных действиях, грубо нарушающих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общественный порядок и выражающих явное неуважение к личности и обществ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Rectangle 6"/>
          <p:cNvSpPr/>
          <p:nvPr/>
        </p:nvSpPr>
        <p:spPr>
          <a:xfrm>
            <a:off x="539640" y="1197000"/>
            <a:ext cx="8210520" cy="532440"/>
          </a:xfrm>
          <a:prstGeom prst="rect">
            <a:avLst/>
          </a:prstGeom>
          <a:solidFill>
            <a:srgbClr val="99cc00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Различают три его разновидности: простое, злостное и особо злостно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7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3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nodeType="clickEffect" fill="hold">
                      <p:stCondLst>
                        <p:cond delay="indefinite"/>
                      </p:stCondLst>
                      <p:childTnLst>
                        <p:par>
                          <p:cTn id="1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0" dur="1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nodeType="clickEffect" fill="hold">
                      <p:stCondLst>
                        <p:cond delay="indefinite"/>
                      </p:stCondLst>
                      <p:childTnLst>
                        <p:par>
                          <p:cTn id="1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7" dur="10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4" dur="10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1" dur="10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nodeType="clickEffect" fill="hold">
                      <p:stCondLst>
                        <p:cond delay="indefinite"/>
                      </p:stCondLst>
                      <p:childTnLst>
                        <p:par>
                          <p:cTn id="10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8" dur="10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nodeType="clickEffect" fill="hold">
                      <p:stCondLst>
                        <p:cond delay="indefinite"/>
                      </p:stCondLst>
                      <p:childTnLst>
                        <p:par>
                          <p:cTn id="1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1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5" dur="1000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5975280" cy="1143000"/>
          </a:xfrm>
          <a:prstGeom prst="rect">
            <a:avLst/>
          </a:prstGeom>
          <a:noFill/>
          <a:ln w="9360">
            <a:solidFill>
              <a:srgbClr val="66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3300"/>
                </a:solidFill>
                <a:latin typeface="Arial"/>
              </a:rPr>
              <a:t>План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936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66"/>
                </a:solidFill>
                <a:uFillTx/>
                <a:latin typeface="Times New Roman"/>
                <a:hlinkClick r:id="rId1" action="ppaction://hlinksldjump"/>
              </a:rPr>
              <a:t>Происхождение назв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66"/>
                </a:solidFill>
                <a:uFillTx/>
                <a:latin typeface="Times New Roman"/>
                <a:hlinkClick r:id="rId2" action="ppaction://hlinksldjump"/>
              </a:rPr>
              <a:t>Понятие уголовного пра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66"/>
                </a:solidFill>
                <a:uFillTx/>
                <a:latin typeface="Times New Roman"/>
                <a:hlinkClick r:id="rId3" action="ppaction://hlinksldjump"/>
              </a:rPr>
              <a:t>Понятие и признаки преступлен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66"/>
                </a:solidFill>
                <a:uFillTx/>
                <a:latin typeface="Times New Roman"/>
                <a:hlinkClick r:id="rId4" action="ppaction://hlinksldjump"/>
              </a:rPr>
              <a:t>Состав преступл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66"/>
                </a:solidFill>
                <a:uFillTx/>
                <a:latin typeface="Times New Roman"/>
                <a:hlinkClick r:id="rId5" action="ppaction://hlinksldjump"/>
              </a:rPr>
              <a:t>Наказание, их система и виды</a:t>
            </a:r>
            <a:r>
              <a:rPr b="0" lang="ru-RU" sz="2800" spc="-1" strike="noStrike" u="sng">
                <a:solidFill>
                  <a:srgbClr val="ffcc66"/>
                </a:solidFill>
                <a:uFillTx/>
                <a:latin typeface="Times New Roman"/>
                <a:hlinkClick r:id="rId6" action="ppaction://hlinksldjump"/>
              </a:rPr>
              <a:t>_x000b_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 u="sng">
                <a:solidFill>
                  <a:srgbClr val="ffcc66"/>
                </a:solidFill>
                <a:uFillTx/>
                <a:latin typeface="Times New Roman"/>
                <a:hlinkClick r:id="rId7" action="ppaction://hlinksldjump"/>
              </a:rPr>
              <a:t>Преступления, попадающие под действие уголовного пра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66"/>
                </a:solidFill>
                <a:uFillTx/>
                <a:latin typeface="Times New Roman"/>
                <a:hlinkClick r:id="rId8" action="ppaction://hlinksldjump"/>
              </a:rPr>
              <a:t>Преступники, заставившие говорить о себе</a:t>
            </a:r>
            <a:r>
              <a:rPr b="0" lang="ru-RU" sz="2800" spc="-1" strike="noStrike">
                <a:solidFill>
                  <a:srgbClr val="6633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</a:rPr>
              <a:t>Схемы****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Picture 5" descr="17по"/>
          <p:cNvPicPr/>
          <p:nvPr/>
        </p:nvPicPr>
        <p:blipFill>
          <a:blip r:embed="rId9"/>
          <a:stretch/>
        </p:blipFill>
        <p:spPr>
          <a:xfrm>
            <a:off x="179280" y="0"/>
            <a:ext cx="943200" cy="13716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90"/>
          <p:cNvPicPr/>
          <p:nvPr/>
        </p:nvPicPr>
        <p:blipFill>
          <a:blip r:embed="rId10"/>
          <a:stretch/>
        </p:blipFill>
        <p:spPr>
          <a:xfrm>
            <a:off x="7740720" y="115920"/>
            <a:ext cx="1238040" cy="1557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79"/>
          <p:cNvPicPr/>
          <p:nvPr/>
        </p:nvPicPr>
        <p:blipFill>
          <a:blip r:embed="rId11"/>
          <a:stretch/>
        </p:blipFill>
        <p:spPr>
          <a:xfrm>
            <a:off x="6588000" y="5229360"/>
            <a:ext cx="255600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178920" y="1599840"/>
            <a:ext cx="6193080" cy="2405160"/>
          </a:xfrm>
          <a:prstGeom prst="rect">
            <a:avLst/>
          </a:prstGeom>
          <a:solidFill>
            <a:srgbClr val="c4c188"/>
          </a:solidFill>
          <a:ln w="5724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К этим преступлениям относятся: незаконное изготовление, приобретение, хранение, перевозка или сбыт наркотических веществ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Если лицо добровольно сдало его или обратилось за медицинской помощью - оно освобождается от ответственности (за приобретение, хранение, перевозку и пересылку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5" name="Picture 4" descr="default"/>
          <p:cNvPicPr/>
          <p:nvPr/>
        </p:nvPicPr>
        <p:blipFill>
          <a:blip r:embed="rId1"/>
          <a:stretch/>
        </p:blipFill>
        <p:spPr>
          <a:xfrm>
            <a:off x="6443640" y="765000"/>
            <a:ext cx="2548080" cy="165600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5"/>
          <p:cNvSpPr/>
          <p:nvPr/>
        </p:nvSpPr>
        <p:spPr>
          <a:xfrm>
            <a:off x="49680" y="404640"/>
            <a:ext cx="6404760" cy="916920"/>
          </a:xfrm>
          <a:prstGeom prst="rect">
            <a:avLst/>
          </a:prstGeom>
          <a:solidFill>
            <a:srgbClr val="c4c188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Субъектами преступлений, связанных с наркоманией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являются вменяемые лиц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достигшие 16-ти летнего возраста (за хищение - с 14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2627280" y="4292640"/>
            <a:ext cx="6351480" cy="1743120"/>
          </a:xfrm>
          <a:prstGeom prst="rect">
            <a:avLst/>
          </a:prstGeom>
          <a:solidFill>
            <a:srgbClr val="7e7b3e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трого карается умышленное повреждение или уничтожение чужого имущества, приводящее к остановке деятельности предприятия, отравлению людей и д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 общеопасным способам относятся поджог, взрыв, затопление и т.д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ответственность - с 16 лет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8" name="Picture 7" descr="107837"/>
          <p:cNvPicPr/>
          <p:nvPr/>
        </p:nvPicPr>
        <p:blipFill>
          <a:blip r:embed="rId2"/>
          <a:stretch/>
        </p:blipFill>
        <p:spPr>
          <a:xfrm>
            <a:off x="324000" y="4365720"/>
            <a:ext cx="2016000" cy="142848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pic>
        <p:nvPicPr>
          <p:cNvPr id="259" name="Picture 8" descr="17"/>
          <p:cNvPicPr/>
          <p:nvPr/>
        </p:nvPicPr>
        <p:blipFill>
          <a:blip r:embed="rId3"/>
          <a:stretch/>
        </p:blipFill>
        <p:spPr>
          <a:xfrm>
            <a:off x="7093080" y="2852640"/>
            <a:ext cx="182880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6" dur="indefinite" restart="never" nodeType="tmRoot">
          <p:childTnLst>
            <p:seq>
              <p:cTn id="1087" dur="indefinite" nodeType="mainSeq">
                <p:childTnLst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2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95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nodeType="clickEffect" fill="hold">
                      <p:stCondLst>
                        <p:cond delay="indefinite"/>
                      </p:stCondLst>
                      <p:childTnLst>
                        <p:par>
                          <p:cTn id="1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2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nodeType="clickEffect" fill="hold">
                      <p:stCondLst>
                        <p:cond delay="indefinite"/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9" dur="1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nodeType="clickEffect" fill="hold">
                      <p:stCondLst>
                        <p:cond delay="indefinite"/>
                      </p:stCondLst>
                      <p:childTnLst>
                        <p:par>
                          <p:cTn id="1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4" dur="10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10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6" dur="1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1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1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3" dur="1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nodeType="clickEffect" fill="hold">
                      <p:stCondLst>
                        <p:cond delay="indefinite"/>
                      </p:stCondLst>
                      <p:childTnLst>
                        <p:par>
                          <p:cTn id="1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8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nodeType="clickEffect" fill="hold">
                      <p:stCondLst>
                        <p:cond delay="indefinite"/>
                      </p:stCondLst>
                      <p:childTnLst>
                        <p:par>
                          <p:cTn id="1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5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9360">
            <a:solidFill>
              <a:srgbClr val="66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3300"/>
                </a:solidFill>
                <a:latin typeface="Arial"/>
              </a:rPr>
              <a:t>Домашнее задание</a:t>
            </a: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99cc00"/>
          </a:solidFill>
          <a:ln w="936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ahoma"/>
              </a:rPr>
              <a:t>Обществознание 8-9 под редакцией Боголюбова, М., 200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ahoma"/>
              </a:rPr>
              <a:t>§ 30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ahoma"/>
              </a:rPr>
              <a:t>вопросы 1-4, устно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ahoma"/>
              </a:rPr>
              <a:t>Понятия- знать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ahoma"/>
              </a:rPr>
              <a:t>Эссе- письменн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663300"/>
                </a:solidFill>
                <a:latin typeface="Tahoma"/>
              </a:rPr>
              <a:t>повторить с.192 – термины и понят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2" name="Picture 4" descr="15"/>
          <p:cNvPicPr/>
          <p:nvPr/>
        </p:nvPicPr>
        <p:blipFill>
          <a:blip r:embed="rId1"/>
          <a:stretch/>
        </p:blipFill>
        <p:spPr>
          <a:xfrm>
            <a:off x="6465960" y="2421000"/>
            <a:ext cx="1377720" cy="20876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5" descr="24"/>
          <p:cNvPicPr/>
          <p:nvPr/>
        </p:nvPicPr>
        <p:blipFill>
          <a:blip r:embed="rId2"/>
          <a:stretch/>
        </p:blipFill>
        <p:spPr>
          <a:xfrm>
            <a:off x="547560" y="404640"/>
            <a:ext cx="102708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893080" cy="647640"/>
          </a:xfrm>
          <a:prstGeom prst="rect">
            <a:avLst/>
          </a:prstGeom>
          <a:solidFill>
            <a:srgbClr val="cccc00"/>
          </a:solidFill>
          <a:ln w="9360">
            <a:solidFill>
              <a:srgbClr val="66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Arial"/>
              </a:rPr>
              <a:t>Преступники, заставившие говорить о себе</a:t>
            </a: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9036000" cy="5688000"/>
          </a:xfrm>
          <a:prstGeom prst="rect">
            <a:avLst/>
          </a:prstGeom>
          <a:solidFill>
            <a:srgbClr val="ffcc66"/>
          </a:solidFill>
          <a:ln w="3816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Задуманное, хотя и не осуществленное преступление есть все же преступление.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-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Сене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Кто прощает преступление, становится его сообщником. 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-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Вольтер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Кто, имея возможность предупредить преступление, не делает этого, тот ему способствует.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-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 Сене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Позорно не наказание, а преступление. 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-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Гердер 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Из всех преступлений самое тяжкое — это бессердечие. Камю 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Преступление нуждается лишь в предлоге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    -    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Аристотел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Страшные преступления влекут за собой страшные последствия. 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-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Герцен А. 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Любовь к отечеству, стыд и страх поношения суть средства укротительная и могущие воздержать множество преступлений. 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Суворов А. 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Только слабые совершают преступления: сильному и счастливому они не нужны. 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-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Вольтер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Самый отъявленный злодей старается извинить себя и уговорить, что совершенное им преступление не особенно существенно и обусловлено необходимостью. 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 -  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Лессинг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Гораздо лучше предупреждать преступления, нежели их наказывать. - Екатерина Велика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Девять десятых из всего числа преступлений, пятнающих человечество, совершены под влиянием вина.- Толстой Л. Н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6" name="po_tundre.mp3" descr=""/>
          <p:cNvPicPr/>
          <p:nvPr/>
        </p:nvPicPr>
        <p:blipFill>
          <a:blip r:embed="rId1"/>
          <a:stretch/>
        </p:blipFill>
        <p:spPr>
          <a:xfrm>
            <a:off x="108000" y="6381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67" name="Oval 5"/>
          <p:cNvSpPr/>
          <p:nvPr/>
        </p:nvSpPr>
        <p:spPr>
          <a:xfrm>
            <a:off x="8748720" y="6237360"/>
            <a:ext cx="216000" cy="41112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6" dur="indefinite" restart="never" nodeType="tmRoot">
          <p:childTnLst>
            <p:seq>
              <p:cTn id="1137" dur="indefinite" nodeType="mainSeq">
                <p:childTnLst>
                  <p:par>
                    <p:cTn id="1138" nodeType="clickEffect" fill="hold">
                      <p:stCondLst>
                        <p:cond delay="0"/>
                      </p:stCondLst>
                      <p:childTnLst>
                        <p:par>
                          <p:cTn id="1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1" dur="1" fill="hold"/>
                                        <p:tgtEl>
                                          <p:spTgt spid="2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66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3300"/>
                </a:solidFill>
                <a:latin typeface="Arial"/>
              </a:rPr>
              <a:t>Джон Диллинджер – враг общества номер один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50560" y="1773000"/>
            <a:ext cx="6227640" cy="4530600"/>
          </a:xfrm>
          <a:prstGeom prst="rect">
            <a:avLst/>
          </a:prstGeom>
          <a:solidFill>
            <a:srgbClr val="cccc00"/>
          </a:solidFill>
          <a:ln w="3816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Джон Диллинджер - это преступник нового типа, широко применявший технические достижения цивилизации. Он активно пользовался автомобилями и одним из первых внедрил систему захвата заложников при ограблениях банков. Долгое время Диллинджер был головной болью всей полицейской Америки, ухитряясь совершать побеги из хорошо охраняемых тюрем. Его похождения и смерть во многом напоминают историю романтической парочки грабителей - Бонни Паркер и Клайда Барро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В последующие десятилетия по образцу банды Диллинджера были совершены десятки тысяч преступлений. И поныне не только в Америке, но и в Европе подражатели Диллинджера наводят на банковских служащих ужас.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0" name="Picture 4" descr="_mikemouse_alive_mod_p189104355_id113041"/>
          <p:cNvPicPr/>
          <p:nvPr/>
        </p:nvPicPr>
        <p:blipFill>
          <a:blip r:embed="rId1"/>
          <a:stretch/>
        </p:blipFill>
        <p:spPr>
          <a:xfrm>
            <a:off x="6732720" y="2565360"/>
            <a:ext cx="2251080" cy="271296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3300"/>
                </a:solidFill>
                <a:latin typeface="Times New Roman"/>
              </a:rPr>
              <a:t>Аль Капоне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202440" cy="4530600"/>
          </a:xfrm>
          <a:prstGeom prst="rect">
            <a:avLst/>
          </a:prstGeom>
          <a:solidFill>
            <a:srgbClr val="cccc00"/>
          </a:solidFill>
          <a:ln w="5724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Альфонсо Габриэль Капоне, или Аль Капоне (итал. Alfonso Capone; 17 января 1899 — 25 января 1947) — знаменитый американский гангстер, действовавший в 1920—1930-х годах на территории Чикаг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Под прикрытием мебельного бизнеса занимался бутлегерством, игорным бизнесом и сутенёрство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Яркий представитель организованной преступности США, зародившейся и существующей там под влиянием итальянской мафи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Известен также под прозвищем Лицо со шрам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3" name="Picture 4" descr="150px-Capone_TeenagerАльфонсо Габриэль Капоне"/>
          <p:cNvPicPr/>
          <p:nvPr/>
        </p:nvPicPr>
        <p:blipFill>
          <a:blip r:embed="rId1"/>
          <a:stretch/>
        </p:blipFill>
        <p:spPr>
          <a:xfrm>
            <a:off x="6804000" y="620640"/>
            <a:ext cx="2063880" cy="273708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55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3300"/>
                </a:solidFill>
                <a:latin typeface="Times New Roman"/>
              </a:rPr>
              <a:t>Лёнька Пантеле́ев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6948360" cy="5180040"/>
          </a:xfrm>
          <a:prstGeom prst="rect">
            <a:avLst/>
          </a:prstGeom>
          <a:solidFill>
            <a:srgbClr val="cccc00"/>
          </a:solidFill>
          <a:ln w="936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Лёнька Пантеле́ев (настоящее имя Леони́д Ива́нович Пантёлкин; 1902, Тихвин — 13 февраля 1923, Петроград) — знаменитый петроградский налётчик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В начале 1922 года Пантелеев обосновался в Петрограде, где собрал банду в которую вошли: сослуживец Пантелеева по Псковской ВЧК Варшулевич, бывший во время гражданской войны комиссар батальона член РКП(б) Гавриков и профессиональные уголовники Александр Рейнтоп (кличка Сашка-пан) и Михаил Лисенков (кличка Мишка-Корявый). Примерно в то же время банда совершила ряд разбоев в г. Петрограде и его окрестностях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Налёты Пантелеева отличались тщательной подготовкой, а также некоторой театральностью и бравадой. Оружие Пантелеев и его люди применяли крайне редко. В то же время, в период своего существования банда Пантелеева не ограбила ни одну государственную организацию. Тот факт, что Пантелеев грабил только нэпманов, создал ему своеобразный романтический ореол в глазах простого народ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В октябре 1922 года Пантелеев был арестован после перестрелки, в ходе которой погиб сотрудник милиции. В ночь с 10 на 11 ноября, воспользовавшись помощью надзирателя, Пантелеев с несколькими сообщниками совершил побег из тюрьмы и начал новую серию вооруженных разбоев. От первой серии эта отличалась тем, что Пантелеев иногда убивал своих жертв. К ликвидации банды были привлечены не только уголовный розыск, но и органы ГПУ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В ночь с 12 на 13 февраля 1923 год Пантелеев попал в засаду и был убит при задержани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6" name="Picture 4" descr="180px-LPanteleev"/>
          <p:cNvPicPr/>
          <p:nvPr/>
        </p:nvPicPr>
        <p:blipFill>
          <a:blip r:embed="rId1"/>
          <a:stretch/>
        </p:blipFill>
        <p:spPr>
          <a:xfrm>
            <a:off x="7020000" y="404640"/>
            <a:ext cx="1908000" cy="234972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-360" y="0"/>
            <a:ext cx="6877080" cy="6858000"/>
          </a:xfrm>
          <a:prstGeom prst="rect">
            <a:avLst/>
          </a:prstGeom>
          <a:solidFill>
            <a:srgbClr val="cccc00"/>
          </a:solidFill>
          <a:ln w="3816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Со́нька — Золота́я ру́чка» великая аферистка и мошенница начала XX-го века Софья Ивановна Блювштейн (Шейндл Соломониак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Сегодняшний интерес к Софье вполне объясни́м — бурное начало века, давшее нам целую плеяду великих аферистов, вполне созвучно нашему не менее бурному времени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Жизнь легендарной в своём роде, дамы-авантюристки, известной в преступном мире, как Сонька-«Золотая Ручка», стала основой увлекательнейшего многосерийного повествования. В середине семидесятых годов XIX века о ней слагались легенды, она была неуловима и изобретательна, таланту и авторитету в уголовном мире не было равных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Благодаря поистине редкому криминальному мышлению, она приобрела опыт и смелость, подчинив свою жизнь и интеллект воровской профессии. В поле её деятельности оказывались крупные банкиры, иностранные дельцы, помещики, владельцы ювелирных магазинов, аристократические клубы, квартиры состоятельных людей. Это была яркая и талантливая, красивая и циничная; обаятельная и любвеобильная женщина, решившая для себя, что жизнь — игра, и в этой игре она не один год гастролировала по России и загранице, поражая воровской изобретательностью, убегая от преследования полиции, искусно исчезая и скрываясь……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Волна преступлений, прокатившаяся по Европе, заставила говорить о Соньке весь мир. «Золотая ручка» отличалась особой скрупулезностью. Она тщательно готовилась к каждому преступлению. В её команде работали лучшие воры Европы, в её арсенале было множество приспособлений, необходимых для работы: накладные ногти, куда мошенница прятала мелкие ювелирные камни, туфли со специальными каблуками, к которым «вовремя» прилипали ювелирные украшения, платье-мешок, куда Сонька прятала награбленое. Но главным в её арсенале всевозможных уловок был несомненно актёрский талант, который помогал ей выпутываться из любых ситуаций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8" name="Picture 4" descr="999952soniaka_zol_r"/>
          <p:cNvPicPr/>
          <p:nvPr/>
        </p:nvPicPr>
        <p:blipFill>
          <a:blip r:embed="rId1"/>
          <a:stretch/>
        </p:blipFill>
        <p:spPr>
          <a:xfrm>
            <a:off x="6948360" y="620640"/>
            <a:ext cx="2048040" cy="285768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  <p:sp>
        <p:nvSpPr>
          <p:cNvPr id="279" name="Rectangle 5"/>
          <p:cNvSpPr/>
          <p:nvPr/>
        </p:nvSpPr>
        <p:spPr>
          <a:xfrm>
            <a:off x="6756480" y="3860640"/>
            <a:ext cx="2309760" cy="1191240"/>
          </a:xfrm>
          <a:prstGeom prst="rect">
            <a:avLst/>
          </a:prstGeom>
          <a:solidFill>
            <a:srgbClr val="dbbd71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Один из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немногих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Прижизненны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портретов Сонь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394920" y="692280"/>
            <a:ext cx="8209080" cy="5689440"/>
          </a:xfrm>
          <a:prstGeom prst="rect">
            <a:avLst/>
          </a:prstGeom>
          <a:solidFill>
            <a:srgbClr val="ffcc66"/>
          </a:solidFill>
          <a:ln w="3816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Times New Roman"/>
              </a:rPr>
              <a:t>1.Принцип законности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Преступность и наказуемость деяния определяется только уголовным законом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Times New Roman"/>
              </a:rPr>
              <a:t>2.Принцип равенств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граждан перед законом. Лица совершившие преступления вне зависимости от привходящих обстоятельств, привлекаются к уголовной ответственности. За равные преступления назначается соразмерная ответственность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Times New Roman"/>
              </a:rPr>
              <a:t>3.Принцип вины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Лицо подлежит уголовной ответственности только за те общественно опасные деяния, в отношении которых установлена его вин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Times New Roman"/>
              </a:rPr>
              <a:t>4.Принцип справедливости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Уголовное наказание должно соответствовать характеру и степени общественной опасност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преступления, личности виновного и обстоятельствам его совершения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Times New Roman"/>
              </a:rPr>
              <a:t>5.Принцип гуманизма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Уголовное законодательство направлено на обеспечение безопасности граждан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Times New Roman"/>
              </a:rPr>
              <a:t>6.Принцип демократизма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. Уголовные законы принимаются только высшим законодательным органом, который избирается всем населением и, следовательно, выражает его волю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Times New Roman"/>
              </a:rPr>
              <a:t>7.Принцип личной ответственности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Лицо совершившее преступление несет ответственность только за то, что совершен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им лично или охватывалось его преступным умыслом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Times New Roman"/>
              </a:rPr>
              <a:t>8.Принцип неотвратимости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ответственности. Любое лицо совершившее преступление должно понести ответственност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Rectangle 3"/>
          <p:cNvSpPr/>
          <p:nvPr/>
        </p:nvSpPr>
        <p:spPr>
          <a:xfrm>
            <a:off x="1835280" y="189000"/>
            <a:ext cx="45370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ahoma"/>
              </a:rPr>
              <a:t>Принципы уголовного прав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2" dur="indefinite" restart="never" nodeType="tmRoot">
          <p:childTnLst>
            <p:seq>
              <p:cTn id="1143" dur="indefinite" nodeType="mainSeq">
                <p:childTnLst>
                  <p:par>
                    <p:cTn id="1144" nodeType="clickEffect" fill="hold">
                      <p:stCondLst>
                        <p:cond delay="indefinite"/>
                      </p:stCondLst>
                      <p:childTnLst>
                        <p:par>
                          <p:cTn id="1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nodeType="clickEffect" fill="hold">
                      <p:stCondLst>
                        <p:cond delay="indefinite"/>
                      </p:stCondLst>
                      <p:childTnLst>
                        <p:par>
                          <p:cTn id="1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nodeType="clickEffect" fill="hold">
                      <p:stCondLst>
                        <p:cond delay="indefinite"/>
                      </p:stCondLst>
                      <p:childTnLst>
                        <p:par>
                          <p:cTn id="1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nodeType="clickEffect" fill="hold">
                      <p:stCondLst>
                        <p:cond delay="indefinite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nodeType="clickEffect" fill="hold">
                      <p:stCondLst>
                        <p:cond delay="indefinite"/>
                      </p:stCondLst>
                      <p:childTnLst>
                        <p:par>
                          <p:cTn id="1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nodeType="clickEffect" fill="hold">
                      <p:stCondLst>
                        <p:cond delay="indefinite"/>
                      </p:stCondLst>
                      <p:childTnLst>
                        <p:par>
                          <p:cTn id="1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nodeType="clickEffect" fill="hold">
                      <p:stCondLst>
                        <p:cond delay="indefinite"/>
                      </p:stCondLst>
                      <p:childTnLst>
                        <p:par>
                          <p:cTn id="1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nodeType="clickEffect" fill="hold">
                      <p:stCondLst>
                        <p:cond delay="indefinite"/>
                      </p:stCondLst>
                      <p:childTnLst>
                        <p:par>
                          <p:cTn id="1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nodeType="clickEffect" fill="hold">
                      <p:stCondLst>
                        <p:cond delay="indefinite"/>
                      </p:stCondLst>
                      <p:childTnLst>
                        <p:par>
                          <p:cTn id="1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nodeType="clickEffect" fill="hold">
                      <p:stCondLst>
                        <p:cond delay="indefinite"/>
                      </p:stCondLst>
                      <p:childTnLst>
                        <p:par>
                          <p:cTn id="1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nodeType="clickEffect" fill="hold">
                      <p:stCondLst>
                        <p:cond delay="indefinite"/>
                      </p:stCondLst>
                      <p:childTnLst>
                        <p:par>
                          <p:cTn id="1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nodeType="clickEffect" fill="hold">
                      <p:stCondLst>
                        <p:cond delay="indefinite"/>
                      </p:stCondLst>
                      <p:childTnLst>
                        <p:par>
                          <p:cTn id="1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nodeType="clickEffect" fill="hold">
                      <p:stCondLst>
                        <p:cond delay="indefinite"/>
                      </p:stCondLst>
                      <p:childTnLst>
                        <p:par>
                          <p:cTn id="1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nodeType="clickEffect" fill="hold">
                      <p:stCondLst>
                        <p:cond delay="indefinite"/>
                      </p:stCondLst>
                      <p:childTnLst>
                        <p:par>
                          <p:cTn id="1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nodeType="clickEffect" fill="hold">
                      <p:stCondLst>
                        <p:cond delay="indefinite"/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nodeType="clickEffect" fill="hold">
                      <p:stCondLst>
                        <p:cond delay="indefinite"/>
                      </p:stCondLst>
                      <p:childTnLst>
                        <p:par>
                          <p:cTn id="1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nodeType="clickEffect" fill="hold">
                      <p:stCondLst>
                        <p:cond delay="indefinite"/>
                      </p:stCondLst>
                      <p:childTnLst>
                        <p:par>
                          <p:cTn id="1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2" descr="28-1"/>
          <p:cNvPicPr/>
          <p:nvPr/>
        </p:nvPicPr>
        <p:blipFill>
          <a:blip r:embed="rId1"/>
          <a:stretch/>
        </p:blipFill>
        <p:spPr>
          <a:xfrm>
            <a:off x="179280" y="549360"/>
            <a:ext cx="8964720" cy="611964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3"/>
          <p:cNvSpPr/>
          <p:nvPr/>
        </p:nvSpPr>
        <p:spPr>
          <a:xfrm>
            <a:off x="1414080" y="115920"/>
            <a:ext cx="3236400" cy="368280"/>
          </a:xfrm>
          <a:prstGeom prst="rect">
            <a:avLst/>
          </a:prstGeom>
          <a:solidFill>
            <a:srgbClr val="99cc00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Схема 1 –Уголовное право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2" descr="28-2"/>
          <p:cNvPicPr/>
          <p:nvPr/>
        </p:nvPicPr>
        <p:blipFill>
          <a:blip r:embed="rId1"/>
          <a:stretch/>
        </p:blipFill>
        <p:spPr>
          <a:xfrm>
            <a:off x="108000" y="836640"/>
            <a:ext cx="8785080" cy="5761080"/>
          </a:xfrm>
          <a:prstGeom prst="rect">
            <a:avLst/>
          </a:prstGeom>
          <a:ln w="0">
            <a:noFill/>
          </a:ln>
        </p:spPr>
      </p:pic>
      <p:sp>
        <p:nvSpPr>
          <p:cNvPr id="285" name="Text Box 3"/>
          <p:cNvSpPr/>
          <p:nvPr/>
        </p:nvSpPr>
        <p:spPr>
          <a:xfrm>
            <a:off x="1903680" y="203040"/>
            <a:ext cx="5258520" cy="368280"/>
          </a:xfrm>
          <a:prstGeom prst="rect">
            <a:avLst/>
          </a:prstGeom>
          <a:solidFill>
            <a:srgbClr val="99cc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Схема 2 -  Уголовное право: особенная ча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9360">
            <a:solidFill>
              <a:srgbClr val="66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3300"/>
                </a:solidFill>
                <a:latin typeface="Arial"/>
              </a:rPr>
              <a:t>Происхождение названия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6720" y="1436760"/>
            <a:ext cx="5904000" cy="5371920"/>
          </a:xfrm>
          <a:prstGeom prst="rect">
            <a:avLst/>
          </a:prstGeom>
          <a:solidFill>
            <a:srgbClr val="99cc00"/>
          </a:solidFill>
          <a:ln w="3816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В большинстве языков мира название правовой отрасли, регулирующей отношения, связанные с совершением преступлений происходит от слов «преступление» (например, в англоязычных странах — criminal law, от англ. crime) или «наказание» (в Германии — Strafrecht, от нем. Strafe, в Болгарии — наказателно право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Н. С. Таганцев писал по этому поводу: «Преступное деяние как юридическое отношение заключает в себе два отдельных момента: отношение преступника к охраняемому законом юридическому интересу — преступление и отношение государства к преступнику, вызываемое учиненным им преступным деянием, — наказание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поэтому и уголовное право может быть конструировано двояко: или на первый план ставится преступное деяние, по отношению к которому кара или наказание является более или менее неизбежным последствием, или же вперед выдвигается карательная деятельность государства и преступное деяние рассматривается только как основание этой деятельности. Отсюда и двойственное название науки…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67" name="Group 11"/>
          <p:cNvGrpSpPr/>
          <p:nvPr/>
        </p:nvGrpSpPr>
        <p:grpSpPr>
          <a:xfrm>
            <a:off x="6300720" y="1844640"/>
            <a:ext cx="2735280" cy="5013360"/>
            <a:chOff x="6300720" y="1844640"/>
            <a:chExt cx="2735280" cy="5013360"/>
          </a:xfrm>
        </p:grpSpPr>
        <p:pic>
          <p:nvPicPr>
            <p:cNvPr id="168" name="Picture 8" descr="salicaLex Salica"/>
            <p:cNvPicPr/>
            <p:nvPr/>
          </p:nvPicPr>
          <p:blipFill>
            <a:blip r:embed="rId1"/>
            <a:stretch/>
          </p:blipFill>
          <p:spPr>
            <a:xfrm>
              <a:off x="6300720" y="4336920"/>
              <a:ext cx="2735280" cy="2521080"/>
            </a:xfrm>
            <a:prstGeom prst="rect">
              <a:avLst/>
            </a:prstGeom>
            <a:ln w="9360">
              <a:solidFill>
                <a:srgbClr val="663300"/>
              </a:solidFill>
              <a:miter/>
            </a:ln>
          </p:spPr>
        </p:pic>
        <p:grpSp>
          <p:nvGrpSpPr>
            <p:cNvPr id="169" name="Group 10"/>
            <p:cNvGrpSpPr/>
            <p:nvPr/>
          </p:nvGrpSpPr>
          <p:grpSpPr>
            <a:xfrm>
              <a:off x="6723360" y="1844640"/>
              <a:ext cx="2258640" cy="2669760"/>
              <a:chOff x="6723360" y="1844640"/>
              <a:chExt cx="2258640" cy="2669760"/>
            </a:xfrm>
          </p:grpSpPr>
          <p:pic>
            <p:nvPicPr>
              <p:cNvPr id="170" name="Picture 7" descr="Franki"/>
              <p:cNvPicPr/>
              <p:nvPr/>
            </p:nvPicPr>
            <p:blipFill>
              <a:blip r:embed="rId2"/>
              <a:stretch/>
            </p:blipFill>
            <p:spPr>
              <a:xfrm>
                <a:off x="7164360" y="1844640"/>
                <a:ext cx="1817640" cy="2278080"/>
              </a:xfrm>
              <a:prstGeom prst="rect">
                <a:avLst/>
              </a:prstGeom>
              <a:ln w="9360">
                <a:solidFill>
                  <a:srgbClr val="663300"/>
                </a:solidFill>
                <a:miter/>
              </a:ln>
            </p:spPr>
          </p:pic>
          <p:sp>
            <p:nvSpPr>
              <p:cNvPr id="171" name="Text Box 9"/>
              <p:cNvSpPr/>
              <p:nvPr/>
            </p:nvSpPr>
            <p:spPr>
              <a:xfrm>
                <a:off x="6723360" y="3933720"/>
                <a:ext cx="2131560" cy="580680"/>
              </a:xfrm>
              <a:prstGeom prst="rect">
                <a:avLst/>
              </a:prstGeom>
              <a:solidFill>
                <a:srgbClr val="f8a5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1600" spc="-1" strike="noStrike">
                    <a:solidFill>
                      <a:srgbClr val="663300"/>
                    </a:solidFill>
                    <a:latin typeface="Tahoma"/>
                  </a:rPr>
                  <a:t>Салическая правда</a:t>
                </a: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ffffff"/>
                    </a:solidFill>
                    <a:latin typeface="Tahoma"/>
                  </a:rPr>
                  <a:t>(</a:t>
                </a:r>
                <a:r>
                  <a:rPr b="1" i="1" lang="ru-RU" sz="1600" spc="-1" strike="noStrike">
                    <a:solidFill>
                      <a:srgbClr val="663300"/>
                    </a:solidFill>
                    <a:latin typeface="Tahoma"/>
                  </a:rPr>
                  <a:t>(Lex Salica</a:t>
                </a:r>
                <a:r>
                  <a:rPr b="1" i="1" lang="en-US" sz="1600" spc="-1" strike="noStrike">
                    <a:solidFill>
                      <a:srgbClr val="663300"/>
                    </a:solidFill>
                    <a:latin typeface="Tahoma"/>
                  </a:rPr>
                  <a:t>)</a:t>
                </a: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pic>
        <p:nvPicPr>
          <p:cNvPr id="172" name="Picture 12" descr="9"/>
          <p:cNvPicPr/>
          <p:nvPr/>
        </p:nvPicPr>
        <p:blipFill>
          <a:blip r:embed="rId3"/>
          <a:stretch/>
        </p:blipFill>
        <p:spPr>
          <a:xfrm>
            <a:off x="6705720" y="115920"/>
            <a:ext cx="243828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8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4" descr="image002"/>
          <p:cNvPicPr/>
          <p:nvPr/>
        </p:nvPicPr>
        <p:blipFill>
          <a:blip r:embed="rId1"/>
          <a:stretch/>
        </p:blipFill>
        <p:spPr>
          <a:xfrm>
            <a:off x="2124000" y="57240"/>
            <a:ext cx="6264360" cy="680076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  <p:sp>
        <p:nvSpPr>
          <p:cNvPr id="287" name="Text Box 5"/>
          <p:cNvSpPr/>
          <p:nvPr/>
        </p:nvSpPr>
        <p:spPr>
          <a:xfrm>
            <a:off x="179280" y="907920"/>
            <a:ext cx="1513080" cy="916920"/>
          </a:xfrm>
          <a:prstGeom prst="rect">
            <a:avLst/>
          </a:prstGeom>
          <a:solidFill>
            <a:srgbClr val="99cc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Схема 3-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уголовное прав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4" descr="image001"/>
          <p:cNvPicPr/>
          <p:nvPr/>
        </p:nvPicPr>
        <p:blipFill>
          <a:blip r:embed="rId1"/>
          <a:stretch/>
        </p:blipFill>
        <p:spPr>
          <a:xfrm>
            <a:off x="2050920" y="549360"/>
            <a:ext cx="6480360" cy="604836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sp>
        <p:nvSpPr>
          <p:cNvPr id="289" name="Text Box 5"/>
          <p:cNvSpPr/>
          <p:nvPr/>
        </p:nvSpPr>
        <p:spPr>
          <a:xfrm>
            <a:off x="361800" y="907920"/>
            <a:ext cx="1579680" cy="1191240"/>
          </a:xfrm>
          <a:prstGeom prst="rect">
            <a:avLst/>
          </a:prstGeom>
          <a:solidFill>
            <a:srgbClr val="99cc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Схема 4 –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Предме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уголовного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прав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2195640" y="259920"/>
            <a:ext cx="4680000" cy="6597720"/>
          </a:xfrm>
          <a:prstGeom prst="rect">
            <a:avLst/>
          </a:prstGeom>
          <a:solidFill>
            <a:srgbClr val="ffcc66"/>
          </a:solidFill>
          <a:ln w="3816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Название этой отрасли права в русском языке имеет опосредованное отношение как к преступлению, так и к наказанию. Прилагательное «уголовный» было введено в правовой лексикон в последней четверти XVIII век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Его происхождение является двояким: с одной стороны, оно восходит к </a:t>
            </a:r>
            <a:r>
              <a:rPr b="0" i="1" lang="ru-RU" sz="2000" spc="-1" strike="noStrike">
                <a:solidFill>
                  <a:srgbClr val="663300"/>
                </a:solidFill>
                <a:latin typeface="Times New Roman"/>
              </a:rPr>
              <a:t>юридическим памятникам Древней Руси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, употреблявшим такие термины, как «</a:t>
            </a: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голова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» (убитый человек), «</a:t>
            </a: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головник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» (убийца), «головщина» (убийство), «головничество» (вознаграждение родственникам убитого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С другой стороны — </a:t>
            </a:r>
            <a:r>
              <a:rPr b="0" i="1" lang="ru-RU" sz="2000" spc="-1" strike="noStrike">
                <a:solidFill>
                  <a:srgbClr val="663300"/>
                </a:solidFill>
                <a:latin typeface="Times New Roman"/>
              </a:rPr>
              <a:t>к латинскому прилагательному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capitalis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 (от caput — голова, человек, индивидуум), которое в римском праве входило в названия наиболее суровых видов наказаний, связанных со смертной казнью, лишением свободы или римского гражданств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Picture 4" descr="«Ярослав Мудрый»"/>
          <p:cNvPicPr/>
          <p:nvPr/>
        </p:nvPicPr>
        <p:blipFill>
          <a:blip r:embed="rId1"/>
          <a:stretch/>
        </p:blipFill>
        <p:spPr>
          <a:xfrm>
            <a:off x="0" y="189000"/>
            <a:ext cx="2050920" cy="3024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pravda"/>
          <p:cNvPicPr/>
          <p:nvPr/>
        </p:nvPicPr>
        <p:blipFill>
          <a:blip r:embed="rId2"/>
          <a:stretch/>
        </p:blipFill>
        <p:spPr>
          <a:xfrm>
            <a:off x="0" y="3789360"/>
            <a:ext cx="2050920" cy="2637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bimg83033"/>
          <p:cNvPicPr/>
          <p:nvPr/>
        </p:nvPicPr>
        <p:blipFill>
          <a:blip r:embed="rId3"/>
          <a:stretch/>
        </p:blipFill>
        <p:spPr>
          <a:xfrm>
            <a:off x="7164360" y="4338720"/>
            <a:ext cx="1763640" cy="25192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219722823"/>
          <p:cNvPicPr/>
          <p:nvPr/>
        </p:nvPicPr>
        <p:blipFill>
          <a:blip r:embed="rId4"/>
          <a:stretch/>
        </p:blipFill>
        <p:spPr>
          <a:xfrm>
            <a:off x="6948360" y="2852640"/>
            <a:ext cx="1979640" cy="13906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" descr="80104633_tonnelЦицерон Марк"/>
          <p:cNvPicPr/>
          <p:nvPr/>
        </p:nvPicPr>
        <p:blipFill>
          <a:blip r:embed="rId5"/>
          <a:stretch/>
        </p:blipFill>
        <p:spPr>
          <a:xfrm>
            <a:off x="7093080" y="189000"/>
            <a:ext cx="1860480" cy="24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4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7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2627280" y="259920"/>
            <a:ext cx="6059520" cy="3024360"/>
          </a:xfrm>
          <a:prstGeom prst="rect">
            <a:avLst/>
          </a:prstGeom>
          <a:solidFill>
            <a:srgbClr val="ffcc66"/>
          </a:solidFill>
          <a:ln w="936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Так, ещё М. М. Сперанский в пояснениях к проекту Уголовного уложения Российской Империи 1813 года указывал, что уголовные наказания «суть те, где дело идет о голове, т. е. о жизни, diminutio capiti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Жизнь каждого лица в обществе есть троякая: физическая, политическая и гражданская; две последние именуются правами состоя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Всякое наказание, непосредственно удручающее или умаляющее бытие или состояние лица, есть наказание уголовное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80" name="Group 11"/>
          <p:cNvGrpSpPr/>
          <p:nvPr/>
        </p:nvGrpSpPr>
        <p:grpSpPr>
          <a:xfrm>
            <a:off x="250920" y="404640"/>
            <a:ext cx="2136600" cy="3039840"/>
            <a:chOff x="250920" y="404640"/>
            <a:chExt cx="2136600" cy="3039840"/>
          </a:xfrm>
        </p:grpSpPr>
        <p:pic>
          <p:nvPicPr>
            <p:cNvPr id="181" name="Picture 4" descr="iМихаил Михайлович Сперанский"/>
            <p:cNvPicPr/>
            <p:nvPr/>
          </p:nvPicPr>
          <p:blipFill>
            <a:blip r:embed="rId1"/>
            <a:stretch/>
          </p:blipFill>
          <p:spPr>
            <a:xfrm>
              <a:off x="250920" y="404640"/>
              <a:ext cx="2136600" cy="2521080"/>
            </a:xfrm>
            <a:prstGeom prst="rect">
              <a:avLst/>
            </a:prstGeom>
            <a:ln w="38160">
              <a:solidFill>
                <a:srgbClr val="663300"/>
              </a:solidFill>
              <a:miter/>
            </a:ln>
          </p:spPr>
        </p:pic>
        <p:sp>
          <p:nvSpPr>
            <p:cNvPr id="182" name="Rectangle 5"/>
            <p:cNvSpPr/>
            <p:nvPr/>
          </p:nvSpPr>
          <p:spPr>
            <a:xfrm>
              <a:off x="313200" y="2924280"/>
              <a:ext cx="2058120" cy="5202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663300"/>
                  </a:solidFill>
                  <a:latin typeface="Tahoma"/>
                </a:rPr>
                <a:t>Михаил Михайлович 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663300"/>
                  </a:solidFill>
                  <a:latin typeface="Tahoma"/>
                </a:rPr>
                <a:t>Сперанский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83" name="Text Box 6"/>
          <p:cNvSpPr/>
          <p:nvPr/>
        </p:nvSpPr>
        <p:spPr>
          <a:xfrm>
            <a:off x="1979640" y="4292640"/>
            <a:ext cx="6848280" cy="2288520"/>
          </a:xfrm>
          <a:prstGeom prst="rect">
            <a:avLst/>
          </a:prstGeom>
          <a:solidFill>
            <a:srgbClr val="ffcc66"/>
          </a:solidFill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-охрана прав и свобод граждан, собственности, общественного порядка и безопасности, окружающей среды, конституционного строя от преступных посягательств, обеспечение мира и безопасности человечества, а та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же предупреждение преступлен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WordArt 7"/>
          <p:cNvSpPr txBox="1"/>
          <p:nvPr/>
        </p:nvSpPr>
        <p:spPr>
          <a:xfrm>
            <a:off x="395280" y="4869000"/>
            <a:ext cx="107964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b829"/>
                </a:solidFill>
                <a:latin typeface="Impact"/>
              </a:rPr>
              <a:t>ст.2, ч.1</a:t>
            </a:r>
            <a:endParaRPr b="0" lang="en-US" sz="1800" spc="1" strike="noStrike">
              <a:ln w="0">
                <a:noFill/>
              </a:ln>
              <a:solidFill>
                <a:srgbClr val="ffb829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b829"/>
                </a:solidFill>
                <a:latin typeface="Impact"/>
              </a:rPr>
              <a:t>УК РФ</a:t>
            </a:r>
            <a:endParaRPr b="0" lang="en-US" sz="1800" spc="1" strike="noStrike">
              <a:ln w="0">
                <a:noFill/>
              </a:ln>
              <a:solidFill>
                <a:srgbClr val="ffb829"/>
              </a:solidFill>
              <a:latin typeface="Impact"/>
              <a:ea typeface="Impact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2895480" y="358776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Rectangle 9"/>
          <p:cNvSpPr/>
          <p:nvPr/>
        </p:nvSpPr>
        <p:spPr>
          <a:xfrm>
            <a:off x="3132000" y="3573360"/>
            <a:ext cx="4751640" cy="482760"/>
          </a:xfrm>
          <a:prstGeom prst="rect">
            <a:avLst/>
          </a:prstGeom>
          <a:solidFill>
            <a:srgbClr val="99cc00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Задачи уголовного законодательств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276360" y="3284640"/>
            <a:ext cx="5616360" cy="3379680"/>
          </a:xfrm>
          <a:prstGeom prst="rect">
            <a:avLst/>
          </a:prstGeom>
          <a:solidFill>
            <a:srgbClr val="dbbd71"/>
          </a:solidFill>
          <a:ln w="5724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Принципы уголовного права</a:t>
            </a: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законность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равенство граждан перед законом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неотвратимость ответственности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личная и виновная ответственность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справедливость и гуманизм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демократизм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исключение двойной уголовной ответственности за одно и то же деян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179280" y="1052640"/>
            <a:ext cx="8856720" cy="642600"/>
          </a:xfrm>
          <a:prstGeom prst="rect">
            <a:avLst/>
          </a:prstGeom>
          <a:solidFill>
            <a:srgbClr val="99cc00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Данная отрасль права определяет общественно опасные дея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(преступления) и меру ответственности, наказания за их соверш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1692360" y="1916280"/>
            <a:ext cx="6810120" cy="703800"/>
          </a:xfrm>
          <a:prstGeom prst="rect">
            <a:avLst/>
          </a:prstGeom>
          <a:solidFill>
            <a:srgbClr val="ffcc66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ahoma"/>
              </a:rPr>
              <a:t>Особенность Уголовного права заключаетс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663300"/>
                </a:solidFill>
                <a:latin typeface="Tahoma"/>
              </a:rPr>
              <a:t>в охране общества от преступных посягательст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" name="Picture 7" descr="гев"/>
          <p:cNvPicPr/>
          <p:nvPr/>
        </p:nvPicPr>
        <p:blipFill>
          <a:blip r:embed="rId1"/>
          <a:stretch/>
        </p:blipFill>
        <p:spPr>
          <a:xfrm>
            <a:off x="179280" y="4869000"/>
            <a:ext cx="2880000" cy="172692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  <p:pic>
        <p:nvPicPr>
          <p:cNvPr id="191" name="Picture 8" descr="sf_photo_lv_2"/>
          <p:cNvPicPr/>
          <p:nvPr/>
        </p:nvPicPr>
        <p:blipFill>
          <a:blip r:embed="rId2"/>
          <a:stretch/>
        </p:blipFill>
        <p:spPr>
          <a:xfrm>
            <a:off x="395280" y="3141720"/>
            <a:ext cx="2427120" cy="134784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  <p:sp>
        <p:nvSpPr>
          <p:cNvPr id="192" name="Rectangle 9"/>
          <p:cNvSpPr/>
          <p:nvPr/>
        </p:nvSpPr>
        <p:spPr>
          <a:xfrm>
            <a:off x="971640" y="189000"/>
            <a:ext cx="7199280" cy="642600"/>
          </a:xfrm>
          <a:prstGeom prst="rect">
            <a:avLst/>
          </a:prstGeom>
          <a:solidFill>
            <a:srgbClr val="cccc00"/>
          </a:solid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</a:rPr>
              <a:t>Понятие уголовного права</a:t>
            </a: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2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0" y="1699920"/>
            <a:ext cx="9036000" cy="1181160"/>
          </a:xfrm>
          <a:prstGeom prst="rect">
            <a:avLst/>
          </a:prstGeom>
          <a:solidFill>
            <a:srgbClr val="cca500"/>
          </a:solidFill>
          <a:ln w="936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Система уголовного права разделяется на Общую, (излагающую основные цели, задачи и принципы) и Особенную (рассматривает вопросы ответственности за совершение конкретных преступлений) ча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1619280" y="189000"/>
            <a:ext cx="6213600" cy="368280"/>
          </a:xfrm>
          <a:prstGeom prst="rect">
            <a:avLst/>
          </a:prstGeom>
          <a:solidFill>
            <a:srgbClr val="cca500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ahoma"/>
              </a:rPr>
              <a:t>Характеристика Уголовного кодекс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2195640" y="907920"/>
            <a:ext cx="5761080" cy="459720"/>
          </a:xfrm>
          <a:prstGeom prst="rect">
            <a:avLst/>
          </a:prstGeom>
          <a:solidFill>
            <a:srgbClr val="cca500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          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12 разделов    -     360 стат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WordArt 6"/>
          <p:cNvSpPr txBox="1"/>
          <p:nvPr/>
        </p:nvSpPr>
        <p:spPr>
          <a:xfrm>
            <a:off x="826920" y="2924280"/>
            <a:ext cx="295308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b829"/>
                </a:solidFill>
                <a:latin typeface="Impact"/>
              </a:rPr>
              <a:t>Общая</a:t>
            </a:r>
            <a:endParaRPr b="1" lang="en-US" sz="2800" spc="1" strike="noStrike">
              <a:ln w="0">
                <a:noFill/>
              </a:ln>
              <a:solidFill>
                <a:srgbClr val="ffb829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b829"/>
                </a:solidFill>
                <a:latin typeface="Impact"/>
              </a:rPr>
              <a:t>часть</a:t>
            </a:r>
            <a:endParaRPr b="1" lang="en-US" sz="2800" spc="1" strike="noStrike">
              <a:ln w="0">
                <a:noFill/>
              </a:ln>
              <a:solidFill>
                <a:srgbClr val="ffb829"/>
              </a:solidFill>
              <a:latin typeface="Impact"/>
              <a:ea typeface="Impact"/>
            </a:endParaRPr>
          </a:p>
        </p:txBody>
      </p:sp>
      <p:sp>
        <p:nvSpPr>
          <p:cNvPr id="197" name="WordArt 7"/>
          <p:cNvSpPr txBox="1"/>
          <p:nvPr/>
        </p:nvSpPr>
        <p:spPr>
          <a:xfrm>
            <a:off x="5415120" y="2849400"/>
            <a:ext cx="2703240" cy="93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b829"/>
                </a:solidFill>
                <a:latin typeface="Impact"/>
              </a:rPr>
              <a:t>Особенная</a:t>
            </a:r>
            <a:endParaRPr b="1" lang="en-US" sz="1800" spc="1" strike="noStrike">
              <a:ln w="0">
                <a:noFill/>
              </a:ln>
              <a:solidFill>
                <a:srgbClr val="ffb829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b829"/>
                </a:solidFill>
                <a:latin typeface="Impact"/>
              </a:rPr>
              <a:t>часть</a:t>
            </a:r>
            <a:endParaRPr b="1" lang="en-US" sz="1800" spc="1" strike="noStrike">
              <a:ln w="0">
                <a:noFill/>
              </a:ln>
              <a:solidFill>
                <a:srgbClr val="ffb829"/>
              </a:solidFill>
              <a:latin typeface="Impact"/>
              <a:ea typeface="Impact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179280" y="3886200"/>
            <a:ext cx="3816360" cy="2899080"/>
          </a:xfrm>
          <a:prstGeom prst="rect">
            <a:avLst/>
          </a:prstGeom>
          <a:solidFill>
            <a:srgbClr val="cca500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663300"/>
                </a:solidFill>
                <a:uFillTx/>
                <a:latin typeface="Times New Roman"/>
              </a:rPr>
              <a:t>6 разделов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Уголовный закон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Преступление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Наказание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Освобождение от уголовной ответственности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УО несовершеннолетних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Принудительные мер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медицинского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характера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4750920" y="3946680"/>
            <a:ext cx="4152240" cy="2838240"/>
          </a:xfrm>
          <a:prstGeom prst="rect">
            <a:avLst/>
          </a:prstGeom>
          <a:solidFill>
            <a:srgbClr val="cca500"/>
          </a:solidFill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663300"/>
                </a:solidFill>
                <a:uFillTx/>
                <a:latin typeface="Times New Roman"/>
              </a:rPr>
              <a:t>6 разделов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Преступления против личности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Преступления в сфере экономики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Преступления против обществен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ной безопасности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Преступления против гос вла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Преступления против военн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службы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Преступления против мир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0" name="Picture 10" descr="7"/>
          <p:cNvPicPr/>
          <p:nvPr/>
        </p:nvPicPr>
        <p:blipFill>
          <a:blip r:embed="rId1"/>
          <a:stretch/>
        </p:blipFill>
        <p:spPr>
          <a:xfrm>
            <a:off x="150840" y="189000"/>
            <a:ext cx="96516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77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9" dur="77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1" dur="77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3" dur="77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0" fill="hold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0" fill="hold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179280" y="2708280"/>
            <a:ext cx="8229600" cy="100800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a500"/>
                </a:solidFill>
                <a:latin typeface="Tahoma"/>
              </a:rPr>
              <a:t>формулируют основные понятия и принципы уголовного пра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1547640" y="1916280"/>
            <a:ext cx="5780160" cy="459720"/>
          </a:xfrm>
          <a:prstGeom prst="rect">
            <a:avLst/>
          </a:prstGeom>
          <a:solidFill>
            <a:srgbClr val="cca5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ahoma"/>
              </a:rPr>
              <a:t>Статьи Общей ча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2195640" y="4005360"/>
            <a:ext cx="4626000" cy="459720"/>
          </a:xfrm>
          <a:prstGeom prst="rect">
            <a:avLst/>
          </a:prstGeom>
          <a:solidFill>
            <a:srgbClr val="f8a5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ahoma"/>
              </a:rPr>
              <a:t>Статьи Особенной ча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38880" y="4797360"/>
            <a:ext cx="8830800" cy="1191240"/>
          </a:xfrm>
          <a:prstGeom prst="rect">
            <a:avLst/>
          </a:prstGeom>
          <a:solidFill>
            <a:srgbClr val="dbbd71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-состоят из 2 частей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Диспозиция (описание признаков конкретного преступления)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Санкция(определение вида и размера наказания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179280" y="333360"/>
            <a:ext cx="8748720" cy="1465560"/>
          </a:xfrm>
          <a:prstGeom prst="rect">
            <a:avLst/>
          </a:prstGeom>
          <a:solidFill>
            <a:srgbClr val="ffcc66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Единственным источником УП является </a:t>
            </a:r>
            <a:r>
              <a:rPr b="1" i="1" lang="ru-RU" sz="1800" spc="-1" strike="noStrike">
                <a:solidFill>
                  <a:srgbClr val="663300"/>
                </a:solidFill>
                <a:latin typeface="Tahoma"/>
              </a:rPr>
              <a:t>уголовный закон</a:t>
            </a: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, основывающийся на Конституции РФ и общепризнанных нормах международного прав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Уголовный Кодекс (УК) подразделяется на Общую (общие положения) и Особенную (конкретные статьи) част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31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4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9" dur="2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62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179280" y="4149720"/>
            <a:ext cx="8785440" cy="2519280"/>
          </a:xfrm>
          <a:prstGeom prst="rect">
            <a:avLst/>
          </a:prstGeom>
          <a:solidFill>
            <a:srgbClr val="cca500"/>
          </a:solidFill>
          <a:ln w="5724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В санкции указывается вид и размер наказания за совершение конкретного преступления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Times New Roman"/>
              </a:rPr>
              <a:t>Санкции бывают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Times New Roman"/>
              </a:rPr>
              <a:t>относительно-определенными</a:t>
            </a:r>
            <a:r>
              <a:rPr b="0" i="1" lang="ru-RU" sz="16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(указывается нижний и верхний предел)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Times New Roman"/>
              </a:rPr>
              <a:t>альтернативными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 (содержит выбор из различных видов наказания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     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УК носит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808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663300"/>
                </a:solidFill>
                <a:latin typeface="Times New Roman"/>
              </a:rPr>
              <a:t>территориальный</a:t>
            </a:r>
            <a:r>
              <a:rPr b="0" i="1" lang="ru-RU" sz="16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(все лица, совершившие преступления на территории России, подлежат ответственности по законам РФ)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808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Times New Roman"/>
              </a:rPr>
              <a:t>гражданский характер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 (граждане РФ вне зависимости от места совершения преступления подлежат ответственности по российским закона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179280" y="333360"/>
            <a:ext cx="4969080" cy="321300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           </a:t>
            </a:r>
            <a:r>
              <a:rPr b="1" i="1" lang="ru-RU" sz="1800" spc="-1" strike="noStrike">
                <a:solidFill>
                  <a:srgbClr val="663300"/>
                </a:solidFill>
                <a:latin typeface="Tahoma"/>
              </a:rPr>
              <a:t>Выделяютс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ahoma"/>
              </a:rPr>
              <a:t>четыре вида диспозиции</a:t>
            </a:r>
            <a:r>
              <a:rPr b="0" lang="en-US" sz="18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663300"/>
                </a:solidFill>
                <a:latin typeface="Tahoma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663300"/>
                </a:solidFill>
                <a:latin typeface="Tahoma"/>
              </a:rPr>
              <a:t>- простая (называется преступление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Tahoma"/>
              </a:rPr>
              <a:t>          </a:t>
            </a:r>
            <a:r>
              <a:rPr b="0" lang="ru-RU" sz="1600" spc="-1" strike="noStrike">
                <a:solidFill>
                  <a:srgbClr val="663300"/>
                </a:solidFill>
                <a:latin typeface="Tahoma"/>
              </a:rPr>
              <a:t>не раскрывая его признаков)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663300"/>
                </a:solidFill>
                <a:latin typeface="Tahoma"/>
              </a:rPr>
              <a:t>- описательная (определяются существенные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Tahoma"/>
              </a:rPr>
              <a:t>          </a:t>
            </a:r>
            <a:r>
              <a:rPr b="0" lang="ru-RU" sz="1600" spc="-1" strike="noStrike">
                <a:solidFill>
                  <a:srgbClr val="663300"/>
                </a:solidFill>
                <a:latin typeface="Tahoma"/>
              </a:rPr>
              <a:t>признаки: кража, например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ahoma"/>
              </a:rPr>
              <a:t>         </a:t>
            </a:r>
            <a:r>
              <a:rPr b="0" lang="ru-RU" sz="1600" spc="-1" strike="noStrike">
                <a:solidFill>
                  <a:srgbClr val="663300"/>
                </a:solidFill>
                <a:latin typeface="Tahoma"/>
              </a:rPr>
              <a:t>это тайное похищение чужого имущества)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663300"/>
                </a:solidFill>
                <a:latin typeface="Tahoma"/>
              </a:rPr>
              <a:t>- ссылочная (отсылка к другой статье)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663300"/>
                </a:solidFill>
                <a:latin typeface="Tahoma"/>
              </a:rPr>
              <a:t>- бланкетная (не определяются все признак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Tahoma"/>
              </a:rPr>
              <a:t>             </a:t>
            </a:r>
            <a:r>
              <a:rPr b="0" lang="ru-RU" sz="16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663300"/>
                </a:solidFill>
                <a:latin typeface="Tahoma"/>
              </a:rPr>
              <a:t>состава преступления, что  требует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663300"/>
                </a:solidFill>
                <a:latin typeface="Tahoma"/>
              </a:rPr>
              <a:t>обращения к другим нормам или отраслям права)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8" name="Picture 8" descr="strafrecht"/>
          <p:cNvPicPr/>
          <p:nvPr/>
        </p:nvPicPr>
        <p:blipFill>
          <a:blip r:embed="rId1"/>
          <a:stretch/>
        </p:blipFill>
        <p:spPr>
          <a:xfrm>
            <a:off x="6877080" y="0"/>
            <a:ext cx="2266920" cy="171936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  <p:pic>
        <p:nvPicPr>
          <p:cNvPr id="209" name="Picture 9" descr="beccaria"/>
          <p:cNvPicPr/>
          <p:nvPr/>
        </p:nvPicPr>
        <p:blipFill>
          <a:blip r:embed="rId2"/>
          <a:stretch/>
        </p:blipFill>
        <p:spPr>
          <a:xfrm>
            <a:off x="5364000" y="1700280"/>
            <a:ext cx="2953080" cy="233208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69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72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0" fill="hold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0" fill="hold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0" fill="hold"/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0" fill="hold"/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0" fill="hold"/>
                                        <p:tgtEl>
                                          <p:spTgt spid="2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0" fill="hold"/>
                                        <p:tgtEl>
                                          <p:spTgt spid="2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0" fill="hold"/>
                                        <p:tgtEl>
                                          <p:spTgt spid="2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0" fill="hold"/>
                                        <p:tgtEl>
                                          <p:spTgt spid="2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8T18:37:27Z</dcterms:created>
  <dc:creator>www.PHILka.RU</dc:creator>
  <dc:description/>
  <dc:language>en-US</dc:language>
  <cp:lastModifiedBy>Ведмедовская_Т</cp:lastModifiedBy>
  <dcterms:modified xsi:type="dcterms:W3CDTF">2018-12-24T15:49:32Z</dcterms:modified>
  <cp:revision>17</cp:revision>
  <dc:subject/>
  <dc:title>Уголовное право</dc:title>
</cp:coreProperties>
</file>